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5.bin" ContentType="application/vnd.openxmlformats-officedocument.oleObject"/>
  <Override PartName="/ppt/embeddings/oleObject6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CFAC-6A01-42B5-8812-E55AD48D0585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8FF9-8717-485D-8628-21F0BADF78F8}" type="slidenum">
              <a:rPr b="0" lang="de-CH" sz="1200" spc="-1" strike="noStrike">
                <a:solidFill>
                  <a:srgbClr val="ffff99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4629-B86D-4CD5-AEDD-9D8C7795675B}" type="slidenum">
              <a:rPr b="0" lang="de-CH" sz="1200" spc="-1" strike="noStrike">
                <a:solidFill>
                  <a:srgbClr val="ffff99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08C2-240C-4A8C-9D04-D5D20BB7C2D5}" type="slidenum">
              <a:rPr b="0" lang="de-CH" sz="1200" spc="-1" strike="noStrike">
                <a:solidFill>
                  <a:srgbClr val="ffff99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AF69-A07D-4C1C-AF96-A86D2C8CF6DB}" type="slidenum">
              <a:rPr b="0" lang="de-CH" sz="1200" spc="-1" strike="noStrike">
                <a:solidFill>
                  <a:srgbClr val="ffff99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hyperlink" Target="http://www.ethbib.ethz.ch/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hyperlink" Target="http://www.ethbib.ethz.ch/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7"/>
          <p:cNvGraphicFramePr/>
          <p:nvPr/>
        </p:nvGraphicFramePr>
        <p:xfrm>
          <a:off x="304920" y="5791320"/>
          <a:ext cx="811080" cy="817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" name="Object 7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791320"/>
                    <a:ext cx="8110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818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Object 2"/>
          <p:cNvGraphicFramePr/>
          <p:nvPr/>
        </p:nvGraphicFramePr>
        <p:xfrm>
          <a:off x="304920" y="5791320"/>
          <a:ext cx="811080" cy="817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" name="Object 2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791320"/>
                    <a:ext cx="8110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ff99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ff99"/>
              </a:buClr>
              <a:buFont typeface="Arial Unicode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ffff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ffff99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66"/>
                </a:solidFill>
                <a:latin typeface="Arial"/>
              </a:rPr>
              <a:t>Library Consortia: A Step Forward the Information Society</a:t>
            </a:r>
            <a:endParaRPr b="0" lang="en-US" sz="4000" spc="-1" strike="noStrike">
              <a:solidFill>
                <a:srgbClr val="ffff66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What Would Consortia Ideally Include?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2133720" y="1828800"/>
            <a:ext cx="4724280" cy="4800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2971800" y="2590920"/>
            <a:ext cx="320040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3772080" y="3390840"/>
            <a:ext cx="16002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895480" y="2209680"/>
            <a:ext cx="3581640" cy="3581640"/>
          </a:xfrm>
          <a:prstGeom prst="irregularSeal2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en-GB" sz="3200" spc="-1" strike="noStrike">
                <a:solidFill>
                  <a:srgbClr val="009900"/>
                </a:solidFill>
                <a:latin typeface="Arial Unicode MS"/>
              </a:rPr>
              <a:t>Consortium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16"/>
          <p:cNvSpPr/>
          <p:nvPr/>
        </p:nvSpPr>
        <p:spPr>
          <a:xfrm flipV="1" rot="4600200">
            <a:off x="5108040" y="2053800"/>
            <a:ext cx="2176560" cy="34020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What Do Consortia Usually Offer?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133720" y="1828800"/>
            <a:ext cx="4724280" cy="4800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2971800" y="2590920"/>
            <a:ext cx="320040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3772080" y="3390840"/>
            <a:ext cx="16002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487120" y="3505320"/>
            <a:ext cx="25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 Unicode MS"/>
              </a:rPr>
              <a:t>Consortium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21" name="AutoShape 15"/>
          <p:cNvSpPr/>
          <p:nvPr/>
        </p:nvSpPr>
        <p:spPr>
          <a:xfrm flipV="1" rot="4600200">
            <a:off x="5108040" y="2053800"/>
            <a:ext cx="2176560" cy="3402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0"/>
          <p:cNvSpPr/>
          <p:nvPr/>
        </p:nvSpPr>
        <p:spPr>
          <a:xfrm flipV="1" rot="4901400">
            <a:off x="7124400" y="4000320"/>
            <a:ext cx="1524240" cy="20574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440" y="2286000"/>
            <a:ext cx="4800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 Unicode MS"/>
              </a:rPr>
              <a:t>Financial advantages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 Unicode MS"/>
              </a:rPr>
              <a:t>Extension of library collection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 Unicode MS"/>
              </a:rPr>
              <a:t>Inclusion of new material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  <a:p>
            <a:pPr lvl="1" marL="936720" indent="-479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Cross Access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lvl="1" marL="936720" indent="-479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Additional Access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5334120" y="5181480"/>
            <a:ext cx="1981080" cy="3812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25" name="Arc 8"/>
          <p:cNvSpPr/>
          <p:nvPr/>
        </p:nvSpPr>
        <p:spPr>
          <a:xfrm rot="429000">
            <a:off x="6724440" y="4095360"/>
            <a:ext cx="609480" cy="1981080"/>
          </a:xfrm>
          <a:custGeom>
            <a:avLst/>
            <a:gdLst/>
            <a:ahLst/>
            <a:rect l="l" t="t" r="r" b="b"/>
            <a:pathLst>
              <a:path fill="none" w="20970" h="19050">
                <a:moveTo>
                  <a:pt x="10181" y="0"/>
                </a:moveTo>
                <a:cubicBezTo>
                  <a:pt x="15581" y="2886"/>
                  <a:pt x="19502" y="7927"/>
                  <a:pt x="20969" y="13871"/>
                </a:cubicBezTo>
              </a:path>
              <a:path stroke="0" w="20970" h="19050">
                <a:moveTo>
                  <a:pt x="10181" y="0"/>
                </a:moveTo>
                <a:cubicBezTo>
                  <a:pt x="15581" y="2886"/>
                  <a:pt x="19502" y="7927"/>
                  <a:pt x="20969" y="13871"/>
                </a:cubicBezTo>
                <a:lnTo>
                  <a:pt x="0" y="19050"/>
                </a:lnTo>
                <a:lnTo>
                  <a:pt x="10181" y="0"/>
                </a:lnTo>
                <a:close/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794920" y="485316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 Unicode MS"/>
              </a:rPr>
              <a:t>Consortium</a:t>
            </a:r>
            <a:endParaRPr b="0" lang="en-US" sz="1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5334120" y="3657600"/>
            <a:ext cx="3047760" cy="29718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5867280" y="4191120"/>
            <a:ext cx="1981440" cy="1904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7318800" y="485316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 Unicode MS"/>
              </a:rPr>
              <a:t>Consortium</a:t>
            </a:r>
            <a:endParaRPr b="0" lang="en-US" sz="1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30" name="Oval 18"/>
          <p:cNvSpPr/>
          <p:nvPr/>
        </p:nvSpPr>
        <p:spPr>
          <a:xfrm>
            <a:off x="6362640" y="4648320"/>
            <a:ext cx="9907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31" name="AutoShape 19"/>
          <p:cNvSpPr/>
          <p:nvPr/>
        </p:nvSpPr>
        <p:spPr>
          <a:xfrm flipV="1" rot="4901400">
            <a:off x="7124400" y="4000320"/>
            <a:ext cx="1524240" cy="2057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533520" y="76212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Consortia - Advantages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 flipV="1" rot="4901400">
            <a:off x="7124400" y="4000320"/>
            <a:ext cx="1524240" cy="20574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5334120" y="5181480"/>
            <a:ext cx="1981080" cy="3812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35" name="Arc 6"/>
          <p:cNvSpPr/>
          <p:nvPr/>
        </p:nvSpPr>
        <p:spPr>
          <a:xfrm rot="429000">
            <a:off x="6724440" y="4095360"/>
            <a:ext cx="609480" cy="1981080"/>
          </a:xfrm>
          <a:custGeom>
            <a:avLst/>
            <a:gdLst/>
            <a:ahLst/>
            <a:rect l="l" t="t" r="r" b="b"/>
            <a:pathLst>
              <a:path fill="none" w="20970" h="19050">
                <a:moveTo>
                  <a:pt x="10181" y="0"/>
                </a:moveTo>
                <a:cubicBezTo>
                  <a:pt x="15581" y="2886"/>
                  <a:pt x="19502" y="7927"/>
                  <a:pt x="20969" y="13871"/>
                </a:cubicBezTo>
              </a:path>
              <a:path stroke="0" w="20970" h="19050">
                <a:moveTo>
                  <a:pt x="10181" y="0"/>
                </a:moveTo>
                <a:cubicBezTo>
                  <a:pt x="15581" y="2886"/>
                  <a:pt x="19502" y="7927"/>
                  <a:pt x="20969" y="13871"/>
                </a:cubicBezTo>
                <a:lnTo>
                  <a:pt x="0" y="19050"/>
                </a:lnTo>
                <a:lnTo>
                  <a:pt x="10181" y="0"/>
                </a:lnTo>
                <a:close/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794920" y="485316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 Unicode MS"/>
              </a:rPr>
              <a:t>Consortium</a:t>
            </a:r>
            <a:endParaRPr b="0" lang="en-US" sz="1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5334120" y="3657600"/>
            <a:ext cx="3047760" cy="29718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5867280" y="4191120"/>
            <a:ext cx="1981440" cy="1904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7318800" y="485316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 Unicode MS"/>
              </a:rPr>
              <a:t>Consortium</a:t>
            </a:r>
            <a:endParaRPr b="0" lang="en-US" sz="1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6362640" y="4648320"/>
            <a:ext cx="9907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1" name="AutoShape 12"/>
          <p:cNvSpPr/>
          <p:nvPr/>
        </p:nvSpPr>
        <p:spPr>
          <a:xfrm flipV="1" rot="4901400">
            <a:off x="7124400" y="4000320"/>
            <a:ext cx="1524240" cy="2057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5029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 Unicode MS"/>
              </a:rPr>
              <a:t>Less money left for other materials.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 Unicode MS"/>
              </a:rPr>
              <a:t>Consortia “dilute” collection profile.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33520" y="76212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Consortia - Disadvantages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6"/>
          <p:cNvSpPr/>
          <p:nvPr/>
        </p:nvSpPr>
        <p:spPr>
          <a:xfrm flipV="1" rot="4901400">
            <a:off x="2628720" y="2932560"/>
            <a:ext cx="1523880" cy="20574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5" name="AutoShape 25"/>
          <p:cNvSpPr/>
          <p:nvPr/>
        </p:nvSpPr>
        <p:spPr>
          <a:xfrm flipV="1" rot="4901400">
            <a:off x="6895800" y="2932560"/>
            <a:ext cx="1523880" cy="20574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638680" y="3124080"/>
            <a:ext cx="1981440" cy="1905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5638680" y="3124080"/>
            <a:ext cx="1981440" cy="190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6134040" y="3581280"/>
            <a:ext cx="990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838080" y="2590920"/>
            <a:ext cx="3048120" cy="29718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50" name="Oval 15"/>
          <p:cNvSpPr/>
          <p:nvPr/>
        </p:nvSpPr>
        <p:spPr>
          <a:xfrm>
            <a:off x="1371600" y="3124080"/>
            <a:ext cx="1981080" cy="190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2823120" y="37861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 Unicode MS"/>
              </a:rPr>
              <a:t>Consortium</a:t>
            </a:r>
            <a:endParaRPr b="0" lang="en-US" sz="1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52" name="Oval 20"/>
          <p:cNvSpPr/>
          <p:nvPr/>
        </p:nvSpPr>
        <p:spPr>
          <a:xfrm>
            <a:off x="1866960" y="3581280"/>
            <a:ext cx="990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53" name="AutoShape 23"/>
          <p:cNvSpPr/>
          <p:nvPr/>
        </p:nvSpPr>
        <p:spPr>
          <a:xfrm flipV="1" rot="4901400">
            <a:off x="6895800" y="2932560"/>
            <a:ext cx="1523880" cy="2057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54" name="AutoShape 24"/>
          <p:cNvSpPr/>
          <p:nvPr/>
        </p:nvSpPr>
        <p:spPr>
          <a:xfrm flipV="1" rot="4901400">
            <a:off x="2628720" y="2932560"/>
            <a:ext cx="1523880" cy="2057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55" name="Oval 28"/>
          <p:cNvSpPr/>
          <p:nvPr/>
        </p:nvSpPr>
        <p:spPr>
          <a:xfrm>
            <a:off x="5105520" y="2590920"/>
            <a:ext cx="3047760" cy="2971800"/>
          </a:xfrm>
          <a:prstGeom prst="ellipse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7090200" y="37861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 Unicode MS"/>
              </a:rPr>
              <a:t>Consortium</a:t>
            </a:r>
            <a:endParaRPr b="0" lang="en-US" sz="1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57" name="AutoShape 30"/>
          <p:cNvSpPr/>
          <p:nvPr/>
        </p:nvSpPr>
        <p:spPr>
          <a:xfrm>
            <a:off x="3505320" y="5715000"/>
            <a:ext cx="2895480" cy="762120"/>
          </a:xfrm>
          <a:custGeom>
            <a:avLst/>
            <a:gdLst>
              <a:gd name="textAreaLeft" fmla="*/ 506520 w 2895480"/>
              <a:gd name="textAreaRight" fmla="*/ 2099160 w 28954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533520" y="76212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Consortia - Disadvantages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Collection Development in a Consortial Environment</a:t>
            </a:r>
            <a:endParaRPr b="0" lang="en-US" sz="32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3429000" y="3048120"/>
            <a:ext cx="2286000" cy="22096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2971800" y="2590920"/>
            <a:ext cx="320040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3772080" y="3390840"/>
            <a:ext cx="16002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209680" y="1828800"/>
            <a:ext cx="4724640" cy="4648320"/>
          </a:xfrm>
          <a:custGeom>
            <a:avLst/>
            <a:gdLst>
              <a:gd name="textAreaLeft" fmla="*/ 691560 w 4724640"/>
              <a:gd name="textAreaRight" fmla="*/ 4033080 w 4724640"/>
              <a:gd name="textAreaTop" fmla="*/ 680400 h 4648320"/>
              <a:gd name="textAreaBottom" fmla="*/ 396792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7352" y="10800"/>
                </a:moveTo>
                <a:cubicBezTo>
                  <a:pt x="7352" y="12704"/>
                  <a:pt x="8896" y="14248"/>
                  <a:pt x="10800" y="14248"/>
                </a:cubicBezTo>
                <a:cubicBezTo>
                  <a:pt x="12704" y="14248"/>
                  <a:pt x="14248" y="12704"/>
                  <a:pt x="14248" y="10800"/>
                </a:cubicBezTo>
                <a:cubicBezTo>
                  <a:pt x="14248" y="8896"/>
                  <a:pt x="12704" y="7352"/>
                  <a:pt x="10800" y="7352"/>
                </a:cubicBezTo>
                <a:cubicBezTo>
                  <a:pt x="8896" y="7352"/>
                  <a:pt x="7352" y="8896"/>
                  <a:pt x="7352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3581280" y="3200400"/>
            <a:ext cx="1981440" cy="190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4114800" y="3657600"/>
            <a:ext cx="990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3048120" y="2666880"/>
            <a:ext cx="3047760" cy="2971800"/>
          </a:xfrm>
          <a:prstGeom prst="ellipse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Collection Development in a Consortial Environment</a:t>
            </a:r>
            <a:endParaRPr b="0" lang="en-US" sz="32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168" name="Oval 3"/>
          <p:cNvSpPr/>
          <p:nvPr/>
        </p:nvSpPr>
        <p:spPr>
          <a:xfrm>
            <a:off x="3429000" y="3048120"/>
            <a:ext cx="2286000" cy="22096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2971800" y="2590920"/>
            <a:ext cx="320040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3772080" y="3390840"/>
            <a:ext cx="16002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2209680" y="1828800"/>
            <a:ext cx="4724640" cy="4648320"/>
          </a:xfrm>
          <a:custGeom>
            <a:avLst/>
            <a:gdLst>
              <a:gd name="textAreaLeft" fmla="*/ 691560 w 4724640"/>
              <a:gd name="textAreaRight" fmla="*/ 4033080 w 4724640"/>
              <a:gd name="textAreaTop" fmla="*/ 680400 h 4648320"/>
              <a:gd name="textAreaBottom" fmla="*/ 396792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7352" y="10800"/>
                </a:moveTo>
                <a:cubicBezTo>
                  <a:pt x="7352" y="12704"/>
                  <a:pt x="8896" y="14248"/>
                  <a:pt x="10800" y="14248"/>
                </a:cubicBezTo>
                <a:cubicBezTo>
                  <a:pt x="12704" y="14248"/>
                  <a:pt x="14248" y="12704"/>
                  <a:pt x="14248" y="10800"/>
                </a:cubicBezTo>
                <a:cubicBezTo>
                  <a:pt x="14248" y="8896"/>
                  <a:pt x="12704" y="7352"/>
                  <a:pt x="10800" y="7352"/>
                </a:cubicBezTo>
                <a:cubicBezTo>
                  <a:pt x="8896" y="7352"/>
                  <a:pt x="7352" y="8896"/>
                  <a:pt x="7352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2895480" y="2895480"/>
            <a:ext cx="533520" cy="533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3352680" y="4267080"/>
            <a:ext cx="609840" cy="60984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4952880" y="3886200"/>
            <a:ext cx="685800" cy="6858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4495680" y="2133720"/>
            <a:ext cx="685800" cy="6858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5181480" y="5105520"/>
            <a:ext cx="685800" cy="6858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3352680" y="5486400"/>
            <a:ext cx="533520" cy="533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4267080" y="3048120"/>
            <a:ext cx="381240" cy="3808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3581280" y="3200400"/>
            <a:ext cx="1981440" cy="190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4114800" y="3657600"/>
            <a:ext cx="990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6095880" y="2590920"/>
            <a:ext cx="457200" cy="4572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82" name="Oval 18"/>
          <p:cNvSpPr/>
          <p:nvPr/>
        </p:nvSpPr>
        <p:spPr>
          <a:xfrm>
            <a:off x="2514600" y="4114800"/>
            <a:ext cx="457200" cy="4572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83" name="Oval 19"/>
          <p:cNvSpPr/>
          <p:nvPr/>
        </p:nvSpPr>
        <p:spPr>
          <a:xfrm>
            <a:off x="5791320" y="3657600"/>
            <a:ext cx="457200" cy="4572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3048120" y="2666880"/>
            <a:ext cx="3047760" cy="2971800"/>
          </a:xfrm>
          <a:prstGeom prst="ellipse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2"/>
          <p:cNvSpPr/>
          <p:nvPr/>
        </p:nvSpPr>
        <p:spPr>
          <a:xfrm flipV="1" rot="4901400">
            <a:off x="7543440" y="5180760"/>
            <a:ext cx="990720" cy="16002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86" name="AutoShape 24"/>
          <p:cNvSpPr/>
          <p:nvPr/>
        </p:nvSpPr>
        <p:spPr>
          <a:xfrm flipV="1" rot="4901400">
            <a:off x="7619760" y="2894760"/>
            <a:ext cx="990720" cy="16002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87" name="AutoShape 23"/>
          <p:cNvSpPr/>
          <p:nvPr/>
        </p:nvSpPr>
        <p:spPr>
          <a:xfrm flipV="1" rot="4901400">
            <a:off x="5334120" y="4113720"/>
            <a:ext cx="990360" cy="16002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88" name="AutoShape 19"/>
          <p:cNvSpPr/>
          <p:nvPr/>
        </p:nvSpPr>
        <p:spPr>
          <a:xfrm flipV="1" rot="4901400">
            <a:off x="5867280" y="1675440"/>
            <a:ext cx="990720" cy="16002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89" name="AutoShape 20"/>
          <p:cNvSpPr/>
          <p:nvPr/>
        </p:nvSpPr>
        <p:spPr>
          <a:xfrm flipV="1" rot="4901400">
            <a:off x="3581640" y="2742120"/>
            <a:ext cx="990360" cy="16002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90" name="AutoShape 21"/>
          <p:cNvSpPr/>
          <p:nvPr/>
        </p:nvSpPr>
        <p:spPr>
          <a:xfrm flipV="1" rot="4901400">
            <a:off x="2590560" y="4418640"/>
            <a:ext cx="990720" cy="16002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91" name="AutoShape 17"/>
          <p:cNvSpPr/>
          <p:nvPr/>
        </p:nvSpPr>
        <p:spPr>
          <a:xfrm flipV="1" rot="4901400">
            <a:off x="1218960" y="1980360"/>
            <a:ext cx="990720" cy="16002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5029200" y="1752480"/>
          <a:ext cx="1676520" cy="13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752480"/>
                    <a:ext cx="167652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3"/>
          <p:cNvGraphicFramePr/>
          <p:nvPr/>
        </p:nvGraphicFramePr>
        <p:xfrm>
          <a:off x="6781680" y="3200400"/>
          <a:ext cx="1676520" cy="13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3200400"/>
                    <a:ext cx="167652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4"/>
          <p:cNvGraphicFramePr/>
          <p:nvPr/>
        </p:nvGraphicFramePr>
        <p:xfrm>
          <a:off x="4419720" y="4267080"/>
          <a:ext cx="1676160" cy="130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267080"/>
                    <a:ext cx="167616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5"/>
          <p:cNvGraphicFramePr/>
          <p:nvPr/>
        </p:nvGraphicFramePr>
        <p:xfrm>
          <a:off x="6705720" y="5334120"/>
          <a:ext cx="1676160" cy="13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5334120"/>
                    <a:ext cx="167616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12"/>
          <p:cNvGraphicFramePr/>
          <p:nvPr/>
        </p:nvGraphicFramePr>
        <p:xfrm>
          <a:off x="228600" y="5867280"/>
          <a:ext cx="679320" cy="6858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0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5867280"/>
                    <a:ext cx="679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13"/>
          <p:cNvSpPr/>
          <p:nvPr/>
        </p:nvSpPr>
        <p:spPr>
          <a:xfrm>
            <a:off x="914400" y="7621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"/>
              </a:rPr>
              <a:t>Academic Libraries of the Future?</a:t>
            </a: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graphicFrame>
        <p:nvGraphicFramePr>
          <p:cNvPr id="203" name="Object 14"/>
          <p:cNvGraphicFramePr/>
          <p:nvPr/>
        </p:nvGraphicFramePr>
        <p:xfrm>
          <a:off x="2743200" y="2819520"/>
          <a:ext cx="1676520" cy="13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2819520"/>
                    <a:ext cx="167652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5"/>
          <p:cNvGraphicFramePr/>
          <p:nvPr/>
        </p:nvGraphicFramePr>
        <p:xfrm>
          <a:off x="1828800" y="4495680"/>
          <a:ext cx="1676520" cy="130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4495680"/>
                    <a:ext cx="167652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16"/>
          <p:cNvGraphicFramePr/>
          <p:nvPr/>
        </p:nvGraphicFramePr>
        <p:xfrm>
          <a:off x="304920" y="2057400"/>
          <a:ext cx="1676160" cy="130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8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920" y="2057400"/>
                    <a:ext cx="167616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25"/>
          <p:cNvSpPr/>
          <p:nvPr/>
        </p:nvSpPr>
        <p:spPr>
          <a:xfrm>
            <a:off x="1981080" y="2438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 Unicode MS"/>
              </a:rPr>
              <a:t>C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095880" y="45720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 Unicode MS"/>
              </a:rPr>
              <a:t>C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6705720" y="213372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 Unicode MS"/>
              </a:rPr>
              <a:t>C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4343400" y="32004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 Unicode MS"/>
              </a:rPr>
              <a:t>C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3429000" y="487692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 Unicode MS"/>
              </a:rPr>
              <a:t>C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83818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 Unicode MS"/>
              </a:rPr>
              <a:t>C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8458200" y="335268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 Unicode MS"/>
              </a:rPr>
              <a:t>C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2"/>
          <p:cNvGraphicFramePr/>
          <p:nvPr/>
        </p:nvGraphicFramePr>
        <p:xfrm>
          <a:off x="4572000" y="2362320"/>
          <a:ext cx="167652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362320"/>
                    <a:ext cx="167652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"/>
          <p:cNvGraphicFramePr/>
          <p:nvPr/>
        </p:nvGraphicFramePr>
        <p:xfrm>
          <a:off x="7010280" y="2971800"/>
          <a:ext cx="1676520" cy="13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971800"/>
                    <a:ext cx="167652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4419720" y="4724280"/>
          <a:ext cx="1676160" cy="130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724280"/>
                    <a:ext cx="167616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5"/>
          <p:cNvGraphicFramePr/>
          <p:nvPr/>
        </p:nvGraphicFramePr>
        <p:xfrm>
          <a:off x="6705720" y="5334120"/>
          <a:ext cx="1676160" cy="13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5334120"/>
                    <a:ext cx="167616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6"/>
          <p:cNvGraphicFramePr/>
          <p:nvPr/>
        </p:nvGraphicFramePr>
        <p:xfrm>
          <a:off x="380880" y="2286000"/>
          <a:ext cx="3505320" cy="272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286000"/>
                    <a:ext cx="350532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WordArt 7"/>
          <p:cNvSpPr txBox="1"/>
          <p:nvPr/>
        </p:nvSpPr>
        <p:spPr>
          <a:xfrm>
            <a:off x="6400800" y="4952880"/>
            <a:ext cx="236232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Library Clos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6553080" y="2514600"/>
            <a:ext cx="236232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Library Clos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28" name="WordArt 9"/>
          <p:cNvSpPr txBox="1"/>
          <p:nvPr/>
        </p:nvSpPr>
        <p:spPr>
          <a:xfrm>
            <a:off x="4191120" y="1905120"/>
            <a:ext cx="2361960" cy="99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Library Clos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29" name="WordArt 10"/>
          <p:cNvSpPr txBox="1"/>
          <p:nvPr/>
        </p:nvSpPr>
        <p:spPr>
          <a:xfrm>
            <a:off x="4038480" y="4191120"/>
            <a:ext cx="23623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Library Clos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230" name="WordArt 11"/>
          <p:cNvSpPr txBox="1"/>
          <p:nvPr/>
        </p:nvSpPr>
        <p:spPr>
          <a:xfrm>
            <a:off x="457200" y="1905120"/>
            <a:ext cx="31910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Library Open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31" name="Object 13"/>
          <p:cNvGraphicFramePr/>
          <p:nvPr/>
        </p:nvGraphicFramePr>
        <p:xfrm>
          <a:off x="228600" y="5867280"/>
          <a:ext cx="679320" cy="6858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5867280"/>
                    <a:ext cx="679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6"/>
          <p:cNvSpPr/>
          <p:nvPr/>
        </p:nvSpPr>
        <p:spPr>
          <a:xfrm>
            <a:off x="914400" y="7621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"/>
              </a:rPr>
              <a:t>Academic Libraries of the Future?</a:t>
            </a: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391520" cy="490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4"/>
          <p:cNvGraphicFramePr/>
          <p:nvPr/>
        </p:nvGraphicFramePr>
        <p:xfrm>
          <a:off x="228600" y="5867280"/>
          <a:ext cx="679320" cy="685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867280"/>
                    <a:ext cx="679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6"/>
          <p:cNvSpPr/>
          <p:nvPr/>
        </p:nvSpPr>
        <p:spPr>
          <a:xfrm>
            <a:off x="914400" y="7621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The Journal That Ate the Library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Unicode MS"/>
              </a:rPr>
              <a:t>Definition</a:t>
            </a: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A </a:t>
            </a:r>
            <a:r>
              <a:rPr b="1" lang="en-US" sz="3200" spc="-1" strike="noStrike">
                <a:solidFill>
                  <a:srgbClr val="ffff99"/>
                </a:solidFill>
                <a:latin typeface="Arial Unicode MS"/>
              </a:rPr>
              <a:t>library consortium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 is a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 Unicode MS"/>
              </a:rPr>
              <a:t>group of </a:t>
            </a: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 Unicode MS"/>
              </a:rPr>
              <a:t>libraries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 who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 Unicode MS"/>
              </a:rPr>
              <a:t>partner to coordinate activities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,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 Unicode MS"/>
              </a:rPr>
              <a:t>share resources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, and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 Unicode MS"/>
              </a:rPr>
              <a:t>combine expertise</a:t>
            </a: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2"/>
          <p:cNvGraphicFramePr/>
          <p:nvPr/>
        </p:nvGraphicFramePr>
        <p:xfrm>
          <a:off x="228600" y="5867280"/>
          <a:ext cx="6793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867280"/>
                    <a:ext cx="679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Consortia </a:t>
            </a:r>
            <a:r>
              <a:rPr b="0" lang="en-GB" sz="2400" spc="-1" strike="noStrike">
                <a:solidFill>
                  <a:srgbClr val="ff9933"/>
                </a:solidFill>
                <a:latin typeface="Arial Unicode MS"/>
                <a:ea typeface="Courier New"/>
              </a:rPr>
              <a:t>– not Big Deals –</a:t>
            </a: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 mark the beginning of a new form of in-depth library cooperation.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Consortia involve sharing of resources in many areas: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collection building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computing expertise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server infrastructure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digital preservation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management of electronic resources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2" marL="1097280" indent="-21924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increased purchasing power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762120" y="7621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Getting Things Right: Consortia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2"/>
          <p:cNvGraphicFramePr/>
          <p:nvPr/>
        </p:nvGraphicFramePr>
        <p:xfrm>
          <a:off x="228600" y="5867280"/>
          <a:ext cx="6793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867280"/>
                    <a:ext cx="679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3"/>
          <p:cNvSpPr/>
          <p:nvPr/>
        </p:nvSpPr>
        <p:spPr>
          <a:xfrm>
            <a:off x="914400" y="7621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New Opportunities for Consortia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Consortia should be seen as a new hub of in-depth library collaboration in the area of collection development.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Looking beyond licensing of commercial products: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A consortium can act as an ideal nucleus for innovative forms of library co-operation. 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This can include building up document servers, launching digital archives or digitising material.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2"/>
          <p:cNvGraphicFramePr/>
          <p:nvPr/>
        </p:nvGraphicFramePr>
        <p:xfrm>
          <a:off x="228600" y="5867280"/>
          <a:ext cx="6793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867280"/>
                    <a:ext cx="679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3"/>
          <p:cNvSpPr/>
          <p:nvPr/>
        </p:nvSpPr>
        <p:spPr>
          <a:xfrm>
            <a:off x="838080" y="7621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Finding the Right Partners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Alliances are powerful tools for a competitive advantage.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However, consortia are mostly formed on a regional/national basis.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Powerful consortia should be alliances based on: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1" marL="927000" indent="-474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common interests (e.g. subject areas)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1" marL="927000" indent="-474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  <a:ea typeface="Courier New"/>
              </a:rPr>
              <a:t>strategic or political goals (e.g. coalition of large libraries of a city)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  <a:p>
            <a:pPr lvl="1" marL="927000" indent="-474480">
              <a:spcBef>
                <a:spcPts val="60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Arial Unicode MS"/>
              </a:rPr>
              <a:t>technical co-operations (e.g. common IT infrastructure)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838080" y="213372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52" name="Oval 4"/>
          <p:cNvSpPr/>
          <p:nvPr/>
        </p:nvSpPr>
        <p:spPr>
          <a:xfrm>
            <a:off x="1295280" y="2590920"/>
            <a:ext cx="1806840" cy="1734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53" name="Oval 5"/>
          <p:cNvSpPr/>
          <p:nvPr/>
        </p:nvSpPr>
        <p:spPr>
          <a:xfrm>
            <a:off x="1752480" y="3048120"/>
            <a:ext cx="903240" cy="84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pic>
        <p:nvPicPr>
          <p:cNvPr id="254" name="Picture 9" descr="C:\Dokumente und Einstellungen\kellera\Anwendungsdaten\Microsoft\Media Catalog\Downloaded Clips\cl1\PE03494_.wmf"/>
          <p:cNvPicPr/>
          <p:nvPr/>
        </p:nvPicPr>
        <p:blipFill>
          <a:blip r:embed="rId1"/>
          <a:stretch/>
        </p:blipFill>
        <p:spPr>
          <a:xfrm>
            <a:off x="4495680" y="1838160"/>
            <a:ext cx="38545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21896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Arial"/>
              </a:rPr>
              <a:t>Should Consortia Replace Local Collection Development?</a:t>
            </a:r>
            <a:endParaRPr b="0" lang="en-US" sz="40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33"/>
                </a:solidFill>
                <a:latin typeface="Arial Unicode MS"/>
              </a:rPr>
              <a:t>…</a:t>
            </a:r>
            <a:r>
              <a:rPr b="0" lang="en-GB" sz="4000" spc="-1" strike="noStrike">
                <a:solidFill>
                  <a:srgbClr val="ff9933"/>
                </a:solidFill>
                <a:latin typeface="Arial Unicode MS"/>
              </a:rPr>
              <a:t>. of course they shouldn’t!</a:t>
            </a:r>
            <a:endParaRPr b="0" lang="en-US" sz="4000" spc="-1" strike="noStrike">
              <a:solidFill>
                <a:srgbClr val="ffff99"/>
              </a:solidFill>
              <a:latin typeface="Arial Unicode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33"/>
                </a:solidFill>
                <a:latin typeface="Arial Unicode MS"/>
              </a:rPr>
              <a:t>But why not, actually?</a:t>
            </a:r>
            <a:endParaRPr b="0" lang="en-US" sz="40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95280" y="2438280"/>
            <a:ext cx="6934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5920" indent="-385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Collections are caused to: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marL="385920" indent="-385920">
              <a:spcBef>
                <a:spcPts val="700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grow, 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marL="385920" indent="-385920">
              <a:spcBef>
                <a:spcPts val="700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become larger,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marL="385920" indent="-385920">
              <a:spcBef>
                <a:spcPts val="700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more advanced.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marL="385920" indent="-385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marL="385920" indent="-385920">
              <a:spcBef>
                <a:spcPts val="700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Good collections don’t develop by chance or coincidence, but by careful planning and selection.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18960" y="762120"/>
            <a:ext cx="6476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"/>
              </a:rPr>
              <a:t>Collection Development: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Arial"/>
              </a:rPr>
              <a:t>What does it mean?</a:t>
            </a:r>
            <a:endParaRPr b="0" lang="en-US" sz="3600" spc="-1" strike="noStrike">
              <a:solidFill>
                <a:srgbClr val="ffff66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2437920"/>
            <a:ext cx="7086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5920" indent="-385920">
              <a:spcBef>
                <a:spcPts val="700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Collections are developed along collection profiles defined by user requirements.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marL="385920" indent="-385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marL="385920" indent="-385920">
              <a:spcBef>
                <a:spcPts val="700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The limits to collection building are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lvl="1" marL="952560" indent="-3762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financial constraints,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lvl="1" marL="952560" indent="-3762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available space,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lvl="1" marL="952560" indent="-3762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resources for processing.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218960" y="762120"/>
            <a:ext cx="6476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"/>
              </a:rPr>
              <a:t>Collection Development: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Arial"/>
              </a:rPr>
              <a:t>What sets the limits?</a:t>
            </a:r>
            <a:endParaRPr b="0" lang="en-US" sz="3600" spc="-1" strike="noStrike">
              <a:solidFill>
                <a:srgbClr val="ffff66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343400" y="243792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5920" indent="-385920">
              <a:spcBef>
                <a:spcPts val="700"/>
              </a:spcBef>
              <a:buClr>
                <a:srgbClr val="ffff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 Unicode MS"/>
              </a:rPr>
              <a:t>Speaking to colleagues, financial constraints are the greatest limit to collection development: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lvl="1" marL="952560" indent="-37620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Arial Unicode MS"/>
              </a:rPr>
              <a:t>Most librarians would agree that they should have more funds to fulfil all user requirements.</a:t>
            </a:r>
            <a:endParaRPr b="0" lang="en-US" sz="2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218960" y="762120"/>
            <a:ext cx="6476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"/>
              </a:rPr>
              <a:t>Collection Development: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Arial"/>
              </a:rPr>
              <a:t>What sets the limits?</a:t>
            </a:r>
            <a:endParaRPr b="0" lang="en-US" sz="36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96" name="Oval 5"/>
          <p:cNvSpPr/>
          <p:nvPr/>
        </p:nvSpPr>
        <p:spPr>
          <a:xfrm>
            <a:off x="990720" y="2743200"/>
            <a:ext cx="3276360" cy="3200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User 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equirements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97" name="Oval 6"/>
          <p:cNvSpPr/>
          <p:nvPr/>
        </p:nvSpPr>
        <p:spPr>
          <a:xfrm>
            <a:off x="1752480" y="3886200"/>
            <a:ext cx="1791000" cy="16765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Funds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Which are the Users’ Requirements?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99" name="Oval 5"/>
          <p:cNvSpPr/>
          <p:nvPr/>
        </p:nvSpPr>
        <p:spPr>
          <a:xfrm>
            <a:off x="2209680" y="1752480"/>
            <a:ext cx="4724640" cy="4800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ice to have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2971800" y="2590920"/>
            <a:ext cx="320040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mportant to have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3772080" y="3390840"/>
            <a:ext cx="16002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re 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equirements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Which are the Users’ Requirements?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2209680" y="1752480"/>
            <a:ext cx="4724640" cy="4800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ice to have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2971800" y="2590920"/>
            <a:ext cx="320040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mportant to have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3772080" y="3390840"/>
            <a:ext cx="16002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ore 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equirements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Which are the Users’ Requirements?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Arial Unicode MS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2209680" y="1752480"/>
            <a:ext cx="4724640" cy="4800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2971800" y="2590920"/>
            <a:ext cx="320040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3772080" y="3390840"/>
            <a:ext cx="160020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6T13:41:33Z</dcterms:created>
  <dc:creator>KellerA</dc:creator>
  <dc:description/>
  <dc:language>en-US</dc:language>
  <cp:lastModifiedBy>hhdk</cp:lastModifiedBy>
  <dcterms:modified xsi:type="dcterms:W3CDTF">2016-12-22T08:26:38Z</dcterms:modified>
  <cp:revision>199</cp:revision>
  <dc:subject/>
  <dc:title>PowerPoint-Präsentation</dc:title>
</cp:coreProperties>
</file>